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810-5CE4-459F-9912-72F41CBC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9C6-BE5C-4E9B-93DB-CCF90D16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86B-DFC3-4198-B2A0-C297CAF2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137-8C2E-4625-AD41-F5461EA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929-1B0D-41A1-80B4-0284324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4BE-9706-429C-AC68-0D1DF9C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AFE-C4DB-48B3-B778-C64F38A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56D-DD64-4F3D-94FE-0889AB09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71A-8476-4053-8719-A343A1BE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6FA-7EF3-4D99-A9DA-1F43FCD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BCD-8771-427D-84CE-0FAED4A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1CE-4714-46AB-B590-CF9513E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08BD-2FF0-42D8-BEE5-6F28D6F3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Activities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on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15 as a class (Flow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: Read the Rest of Chapter 15 (QUIZ W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results of political, economic and social oppression and the viol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mp the Teache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will write down 5 questions as you are read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question must be found in th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ir question is about content...a question you might expect to find on a quiz (In other words, not “What is the first word in the second paragraph of the third pag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ump the entire class gets one bonus poin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3:04:41Z</dcterms:created>
  <dc:creator>Michael Farrell</dc:creator>
  <dc:description/>
  <dc:language>en-US</dc:language>
  <cp:lastModifiedBy>Michael Farrell</cp:lastModifiedBy>
  <dcterms:modified xsi:type="dcterms:W3CDTF">2011-02-01T13:13:45Z</dcterms:modified>
  <cp:revision>4</cp:revision>
  <dc:subject/>
  <dc:title>Daily Activities and Objectives</dc:title>
</cp:coreProperties>
</file>